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62" spc="-1" strike="noStrike">
                <a:solidFill>
                  <a:srgbClr val="000000"/>
                </a:solidFill>
                <a:latin typeface="Arial"/>
              </a:defRPr>
            </a:pPr>
            <a:r>
              <a:rPr b="1" sz="1462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34502977137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081859915458"/>
          <c:y val="0.209305425943208"/>
          <c:w val="0.959956365619745"/>
          <c:h val="0.77003066257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3</c:v>
                </c:pt>
                <c:pt idx="2">
                  <c:v>9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3488372093023</c:v>
                </c:pt>
                <c:pt idx="1">
                  <c:v>3.53488372093023</c:v>
                </c:pt>
                <c:pt idx="2">
                  <c:v>14.1395348837209</c:v>
                </c:pt>
                <c:pt idx="3">
                  <c:v>12.3720930232558</c:v>
                </c:pt>
                <c:pt idx="4">
                  <c:v>8.83720930232558</c:v>
                </c:pt>
                <c:pt idx="5">
                  <c:v>8.83720930232558</c:v>
                </c:pt>
                <c:pt idx="6">
                  <c:v>8.83720930232558</c:v>
                </c:pt>
                <c:pt idx="7">
                  <c:v>5.30232558139535</c:v>
                </c:pt>
                <c:pt idx="8">
                  <c:v>3.53488372093023</c:v>
                </c:pt>
                <c:pt idx="9">
                  <c:v>3.53488372093023</c:v>
                </c:pt>
                <c:pt idx="10">
                  <c:v>3.5348837209302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9181254"/>
        <c:axId val="83639188"/>
      </c:barChart>
      <c:catAx>
        <c:axId val="4918125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39188"/>
        <c:crossesAt val="0"/>
        <c:auto val="1"/>
        <c:lblAlgn val="ctr"/>
        <c:lblOffset val="100"/>
        <c:noMultiLvlLbl val="0"/>
      </c:catAx>
      <c:valAx>
        <c:axId val="83639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125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0262210568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76744186046512</c:v>
                </c:pt>
                <c:pt idx="1">
                  <c:v>1.76744186046512</c:v>
                </c:pt>
                <c:pt idx="2">
                  <c:v>7.06976744186047</c:v>
                </c:pt>
                <c:pt idx="3">
                  <c:v>6.18604651162791</c:v>
                </c:pt>
                <c:pt idx="4">
                  <c:v>4.41860465116279</c:v>
                </c:pt>
                <c:pt idx="5">
                  <c:v>4.41860465116279</c:v>
                </c:pt>
                <c:pt idx="6">
                  <c:v>4.41860465116279</c:v>
                </c:pt>
                <c:pt idx="7">
                  <c:v>2.65116279069767</c:v>
                </c:pt>
                <c:pt idx="8">
                  <c:v>1.76744186046512</c:v>
                </c:pt>
                <c:pt idx="9">
                  <c:v>1.76744186046512</c:v>
                </c:pt>
                <c:pt idx="10">
                  <c:v>1.7674418604651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4923870"/>
        <c:axId val="71794003"/>
      </c:barChart>
      <c:catAx>
        <c:axId val="3492387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94003"/>
        <c:crossesAt val="0"/>
        <c:auto val="1"/>
        <c:lblAlgn val="ctr"/>
        <c:lblOffset val="100"/>
        <c:noMultiLvlLbl val="0"/>
      </c:catAx>
      <c:valAx>
        <c:axId val="71794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2387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2" spc="-1" strike="noStrike">
                <a:solidFill>
                  <a:srgbClr val="000000"/>
                </a:solidFill>
                <a:latin typeface="Arial"/>
              </a:defRPr>
            </a:pPr>
            <a:r>
              <a:rPr b="1" sz="1492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4706457490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60001777698769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5</c:v>
                </c:pt>
                <c:pt idx="1">
                  <c:v>0</c:v>
                </c:pt>
                <c:pt idx="2">
                  <c:v>0</c:v>
                </c:pt>
                <c:pt idx="3">
                  <c:v>2</c:v>
                </c:pt>
                <c:pt idx="4">
                  <c:v>2</c:v>
                </c:pt>
                <c:pt idx="5">
                  <c:v>8</c:v>
                </c:pt>
                <c:pt idx="6">
                  <c:v>8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7415730337079</c:v>
                </c:pt>
                <c:pt idx="1">
                  <c:v>2.67415730337079</c:v>
                </c:pt>
                <c:pt idx="2">
                  <c:v>13.752808988764</c:v>
                </c:pt>
                <c:pt idx="3">
                  <c:v>11.4606741573034</c:v>
                </c:pt>
                <c:pt idx="4">
                  <c:v>8.02247191011236</c:v>
                </c:pt>
                <c:pt idx="5">
                  <c:v>8.40449438202247</c:v>
                </c:pt>
                <c:pt idx="6">
                  <c:v>8.02247191011236</c:v>
                </c:pt>
                <c:pt idx="7">
                  <c:v>6.87640449438202</c:v>
                </c:pt>
                <c:pt idx="8">
                  <c:v>1.52808988764045</c:v>
                </c:pt>
                <c:pt idx="9">
                  <c:v>1.52808988764045</c:v>
                </c:pt>
                <c:pt idx="10">
                  <c:v>1.52808988764045</c:v>
                </c:pt>
                <c:pt idx="11">
                  <c:v>0</c:v>
                </c:pt>
                <c:pt idx="12">
                  <c:v>0.764044943820225</c:v>
                </c:pt>
                <c:pt idx="13">
                  <c:v>0.764044943820225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1312580"/>
        <c:axId val="70620987"/>
      </c:barChart>
      <c:catAx>
        <c:axId val="913125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0987"/>
        <c:crossesAt val="0"/>
        <c:auto val="1"/>
        <c:lblAlgn val="ctr"/>
        <c:lblOffset val="100"/>
        <c:noMultiLvlLbl val="0"/>
      </c:catAx>
      <c:valAx>
        <c:axId val="70620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1258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58" spc="-1" strike="noStrike">
                <a:solidFill>
                  <a:srgbClr val="000000"/>
                </a:solidFill>
                <a:latin typeface="Arial"/>
              </a:defRPr>
            </a:pPr>
            <a:r>
              <a:rPr b="1" sz="1358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6380160881739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6372483668844"/>
          <c:w val="0.959957335229545"/>
          <c:h val="0.77336355152646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7</c:v>
                </c:pt>
                <c:pt idx="1">
                  <c:v>13</c:v>
                </c:pt>
                <c:pt idx="2">
                  <c:v>17</c:v>
                </c:pt>
                <c:pt idx="3">
                  <c:v>8</c:v>
                </c:pt>
                <c:pt idx="4">
                  <c:v>1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4</c:v>
                </c:pt>
                <c:pt idx="9">
                  <c:v>4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7415730337079</c:v>
                </c:pt>
                <c:pt idx="1">
                  <c:v>2.67415730337079</c:v>
                </c:pt>
                <c:pt idx="2">
                  <c:v>13.752808988764</c:v>
                </c:pt>
                <c:pt idx="3">
                  <c:v>11.4606741573034</c:v>
                </c:pt>
                <c:pt idx="4">
                  <c:v>8.02247191011236</c:v>
                </c:pt>
                <c:pt idx="5">
                  <c:v>8.40449438202247</c:v>
                </c:pt>
                <c:pt idx="6">
                  <c:v>8.02247191011236</c:v>
                </c:pt>
                <c:pt idx="7">
                  <c:v>6.87640449438202</c:v>
                </c:pt>
                <c:pt idx="8">
                  <c:v>1.52808988764045</c:v>
                </c:pt>
                <c:pt idx="9">
                  <c:v>1.52808988764045</c:v>
                </c:pt>
                <c:pt idx="10">
                  <c:v>1.52808988764045</c:v>
                </c:pt>
                <c:pt idx="11">
                  <c:v>0</c:v>
                </c:pt>
                <c:pt idx="12">
                  <c:v>0.764044943820225</c:v>
                </c:pt>
                <c:pt idx="13">
                  <c:v>0.764044943820225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6902671"/>
        <c:axId val="6694342"/>
      </c:barChart>
      <c:catAx>
        <c:axId val="169026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4342"/>
        <c:crossesAt val="0"/>
        <c:auto val="1"/>
        <c:lblAlgn val="ctr"/>
        <c:lblOffset val="100"/>
        <c:noMultiLvlLbl val="0"/>
      </c:catAx>
      <c:valAx>
        <c:axId val="6694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0267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AEF-D288-4479-983F-7F37AC80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31A-2CB9-492E-B6E7-419D6615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446-EFE2-4502-A53D-8DC964A9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16A-A873-4862-967D-8CB92851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3D4-F8DC-4CE6-A3E5-1C968C4F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4BA-03B6-4B33-A469-ADBDFA37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1E0-075E-4799-BDDA-8D6FE413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0BF-7003-4104-89BF-601F05AC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170-45DC-4C94-8A20-64FBDDCF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F28-9FEA-49A7-BC25-AFA5F33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2B9-86EF-4A62-A7B8-D67799F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C42-F8C7-4C73-80CF-2B5828B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7851-694B-42EF-B398-54071A35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chart" Target="../charts/chart3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chart" Target="../charts/chart4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Estat&#237;stica de uso/Diagn&#243;stico - Irman Ribeiro/Noturno/RELATORIO STE - Luciene.xls" TargetMode="External"/><Relationship Id="rId3" Type="http://schemas.openxmlformats.org/officeDocument/2006/relationships/hyperlink" Target="../Estat&#237;stica de uso/Diagn&#243;stico - Irman Ribeiro/Noturno/RELATORIO STE - Luciene.xls" TargetMode="External"/><Relationship Id="rId4" Type="http://schemas.openxmlformats.org/officeDocument/2006/relationships/hyperlink" Target="../Estat&#237;stica de uso/Diagn&#243;stico - Irman Ribeiro/Noturno/RELATORIO STE - Luciene.xls" TargetMode="External"/><Relationship Id="rId5" Type="http://schemas.openxmlformats.org/officeDocument/2006/relationships/hyperlink" Target="../Estat&#237;stica de uso/Diagn&#243;stico - Irman Ribeiro/Noturno/RELATORIO STE - Luciene.xls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colairmanribeiro.wikispaces.com/Cronograma+-+2&#186;+semestre" TargetMode="External"/><Relationship Id="rId3" Type="http://schemas.openxmlformats.org/officeDocument/2006/relationships/hyperlink" Target="http://escolairmanribeiro.wikispaces.com/Cronograma+-+2&#186;+semestre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Projeto Leitura e Escrita Divertida.ppt" TargetMode="External"/><Relationship Id="rId3" Type="http://schemas.openxmlformats.org/officeDocument/2006/relationships/hyperlink" Target="..\..\Projetos 2&#186; semestre\Dr Martinho Marques\Projeto Evento\Cida\V&#237;deo+MSN...wmv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chart" Target="../charts/chart1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chart" Target="../charts/chart2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1213920"/>
            <a:ext cx="64818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 IRMAN RIBEIRO DE ALMEIDA E SILV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A ANDRADINA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500880" y="46432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79280" y="1628640"/>
          <a:ext cx="809964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70036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572160" y="450072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79280" y="162864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700360" y="450864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5086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otu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unca utilizaram: Filosofia e soci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utilizaram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ucação Física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LínguaPortu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íngua Ing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de aulas ociosas: 42,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de aulas utilizadas: 57,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ÇÃO 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FESSOR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	UTILIZARAM A STE NO 1º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º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guns exemp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itura e escrita diver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SN – ferramenta de leitura e esc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ntos a refle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endamen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aulas devem ser planejadas com objetivos claramente definid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ula será registrada em portfólio onl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o de aula entregue com antecedênci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alização de projetos interdisciplina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que   nos   cabe,   como   educadores   que   somos,   é  saber   que estaremos  sempre  diante  de obstáculos,  que nunca estaremos  prontos, e   que   crescemos   a   cada   dia   com   nossas experiências   e   com   as  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sos alunos.  Ou seja,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a professor  deve ser um eterno  aprendi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(VIEIRA, 28/07/200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tir a realidade contemporâne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alguns pontos a refletir e pensar 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danças para o 2º semes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 da escola do período noturno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relação nominal dos professore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ram a STE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cronograma de ações do 2º semestr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260280"/>
          <a:ext cx="7418160" cy="6264360"/>
        </p:xfrm>
        <a:graphic>
          <a:graphicData uri="http://schemas.openxmlformats.org/drawingml/2006/table">
            <a:tbl>
              <a:tblPr/>
              <a:tblGrid>
                <a:gridCol w="2305080"/>
                <a:gridCol w="2557440"/>
                <a:gridCol w="2555640"/>
              </a:tblGrid>
              <a:tr h="1104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L behaviorista (1950-197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L comunicativ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970-198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L integr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980-199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oria behavorista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mputador considerado um tutor mecânic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plicações gramaticais e tradução de tex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orias cognitiv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co na interação entre os alunos enquanto trabalham no computado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vidades com foco no uso das for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sino implícito da gramática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corajar os alunos a produzir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enunciado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iginai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gramas de reconstrução de textos e simulaçõ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oria sócio-cognitiva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mputador multimídia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nder a ler, escrever e comunicar por meio do computado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Foco no uso da língua em contextos sociais autêntic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k-based, project-based, content-bas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tegrar a tecnologia mais completamente no processo de aprendiz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Título 1" descr=""/>
          <p:cNvPicPr/>
          <p:nvPr/>
        </p:nvPicPr>
        <p:blipFill>
          <a:blip r:embed="rId2"/>
          <a:stretch/>
        </p:blipFill>
        <p:spPr>
          <a:xfrm>
            <a:off x="6156360" y="5877000"/>
            <a:ext cx="2808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ntemporaneidade: as crenças que prevalecem (BRITO,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lir  as tecnologias e tentar  ficar  fora do proces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priar - se da técnica e transformar  a vida em uma corrid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ás do nov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zer   uso   dos   processos,   desenvolvendo   habilidades  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am o acesso e o controle das tecnologias e seus efe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ORMÁTICA NA EDUCAÇÃO: PARADIGMA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ionada   ao   ensino  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s  e aplicativos (usa- se   a informática   pela   informátic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ê  no computador   uma ferramenta   auxiliar   do   processo   de   ensi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izagem (VALENTE, 200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ão  estruturante  do  modo  de pensar  e agir  das pessoas ao interagir  com essa tecnologia (LÉVY, 19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360" y="1700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dade de uso da STE nos meses de março – abril – maio -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A LUC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6572160" y="46432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1628640"/>
          <a:ext cx="792000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47640" y="465300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465300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6500880" y="471492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0" y="1628640"/>
          <a:ext cx="809928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411280" y="479736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47973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HP</cp:lastModifiedBy>
  <dcterms:modified xsi:type="dcterms:W3CDTF">2009-07-29T22:07:19Z</dcterms:modified>
  <cp:revision>29</cp:revision>
  <dc:subject/>
  <dc:title>EE PADRE ANCHIETA NOVA ANDRADINA - MS</dc:title>
</cp:coreProperties>
</file>